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B0AB-F745-4669-BEFD-5B3877879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3C05-0951-4FAE-BCB7-4EE39F731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0F35-FD0F-4663-8A5F-1CF4D85AA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B8DE-2E7F-45C0-ACD0-534FA9346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C428-CEF8-479B-A704-789C11EA1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CFAB9-7DD9-4EC2-B449-BCD526EAF3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23ED8-44E0-4BD2-8DD7-AE4143B7D0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2C211-3836-4AD3-BAB4-6544F546B6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0F789-5BCB-46CD-A063-6A602E945F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9A7E2-CFA6-4C08-98CB-118E2F194C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32F5F-709E-494F-8989-BC7DE3EF4E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3BA7C-222B-424D-BE46-458E669528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94783-1917-4A32-A9A7-4A3DB10A4D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2B4B7-7E7E-4819-829F-2F377F0017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47E75-0AA7-4370-AD66-7DEDBEC26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BEA9D-67FA-4D4D-AC2F-B7E9C2B4AD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94F10-167D-4EAF-B89F-4B94AD81E6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FF87-4C54-4C69-B5D7-6CEAB728D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5744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Charles Wilson</cp:lastModifiedBy>
  <dcterms:modified xsi:type="dcterms:W3CDTF">2008-06-02T13:26:47Z</dcterms:modified>
  <cp:revision>81</cp:revision>
  <dc:subject/>
  <dc:title>AT Basic System Example</dc:title>
</cp:coreProperties>
</file>