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58C9-98B4-4A19-A545-B84742E96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7185-E98E-4501-B31D-62BC5BCB1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8CE2-D79F-44FC-BF47-B1B9198B4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F2C9-35F9-4360-B6E1-BB29FA698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616F-45BE-4227-B658-0A8FCBBA1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1F640-D20E-4E17-9E0F-20B15AEA85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729E8-11DD-4147-8EE2-6726C8C3E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4EA9A-26CC-4B42-8C75-9345354753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0D5A6-7E81-4114-84BC-6228298D6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41A57-5757-4673-93EC-3E3D0B4D01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7F1A-ED2B-4D36-A08B-254617291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334FF-01F4-44B3-BE95-A8706392F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E7542-FEEE-4D59-8C25-DFEB34708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6A995-E1B0-4351-9530-DACDB3FEC4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5C4DF-2ECF-4638-8416-083C67D16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1B5DA-C1AF-4F4B-9B79-8E86E0B6B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EDA70-3B3D-40DB-A171-EA0E17D4C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381F-10AB-4B2D-A130-3ABF59814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Jack Donovan</cp:lastModifiedBy>
  <dcterms:modified xsi:type="dcterms:W3CDTF">2009-05-04T21:26:45Z</dcterms:modified>
  <cp:revision>87</cp:revision>
  <dc:subject/>
  <dc:title>AT Basic System Example</dc:title>
</cp:coreProperties>
</file>