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29FE2-BBD4-4F9E-918C-7FF2E532E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8A2D2-9CE6-444F-9713-45FFA6D913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A0FDA-6566-4B7B-986A-E857EDAB96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46A09-8F30-43DF-B197-FFAE8EDD6F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4DD9D-AFDF-4B08-8EF7-8701AE2D91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87942-18B0-415A-9929-D47F16BB69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630DA-0051-48AF-A6F8-F1C9BBEB97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DE667-6424-43FA-9B17-42C8470C36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5AD82-D416-4518-B355-1B5F867385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8F611-436D-4969-A8B7-0AEF0FD601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FAEE0-F015-4873-B14D-330972EE96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FD1CC-86E6-42B6-90FC-64DB225D55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F9BA1-09C1-4213-81E0-7CFD9E96A9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E7A45-2EAE-4910-BF78-9531BE0704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59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3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6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0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4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7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 </cp:lastModifiedBy>
  <dcterms:modified xsi:type="dcterms:W3CDTF">2009-02-07T17:01:47Z</dcterms:modified>
  <cp:revision>62</cp:revision>
  <dc:subject/>
  <dc:title>TLM2</dc:title>
</cp:coreProperties>
</file>