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3B39-466D-48D4-861D-D228E2B69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4645E-ECF7-42B8-8974-053D06EADF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77431-AA37-4D2A-B139-BD4DDDD632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21C80-CEEB-46D3-84A3-5B08430025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21A69-F7B9-4B3F-BED2-89F3B497F0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0122D-ECB8-4C2F-88EE-5960D776F5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D5A46-0EBB-47D3-8EC3-356B67CAE7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C3A99-1C14-469A-890B-792A20E719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586CD-41C2-4C4C-8D84-514324F256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2F353-29BE-4499-B81F-83C0BA28D2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9C720-5C88-43B7-ACB0-EE51A4383F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E5198-24DE-4A46-882B-FF30C0317A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D004A-7B0E-42B9-86B5-AFBAA23ACF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07E5-C606-4114-9857-4846063ED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6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7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4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1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6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0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1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8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endCxn id="28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7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0" name=""/>
            <p:cNvCxnSpPr>
              <a:stCxn id="28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3" name=""/>
            <p:cNvCxnSpPr>
              <a:stCxn id="29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9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5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6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0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8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7" idx="0"/>
            <a:endCxn id="13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40" idx="2"/>
            <a:endCxn id="14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40" idx="0"/>
            <a:endCxn id="14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45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6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8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49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2"/>
            <a:endCxn id="15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52" idx="0"/>
            <a:endCxn id="15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8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6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2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5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7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6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1"/>
            <a:endCxn id="236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39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0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42" idx="1"/>
            <a:endCxn id="236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5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Jack Donovan</cp:lastModifiedBy>
  <dcterms:modified xsi:type="dcterms:W3CDTF">2008-06-05T21:45:26Z</dcterms:modified>
  <cp:revision>77</cp:revision>
  <dc:subject/>
  <dc:title>AT Basic System Example</dc:title>
</cp:coreProperties>
</file>