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D41F-7AEB-4115-BC4B-CA29BEF7F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8061-B73C-42F2-A3C9-F92641E45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801A-7A3D-47DA-BE0B-30206C542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0CA9-16E9-42BB-B382-C7C07E884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85C7-DDDC-492D-BCC8-649734871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00EE-792D-4195-9927-921CB5BE2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AF9F1-9F45-4366-9659-63AAC72971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6E49E-7DE4-4AA6-AAA4-5146C9B24A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077C3-24FF-4224-909E-3ED1632362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1B98A-B175-479E-AA9A-7DEA484567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FCF69-CA7F-4AEE-AEE9-F0AF1D152D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DD17A-EAD0-4919-A5BC-532EE9BACF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F0247-2CCB-42B1-B754-97B9FAFE49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69CDE-5454-4F7C-8338-7633806F09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4D739-45DC-4DB2-8874-81FE0F7CB2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2C239-2B4E-446D-8986-D6667568E8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4DB39-7F35-4B29-8AA8-3159427F75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1A588-3119-47C1-B2B7-A43BB5AA0F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D1EC-C4EB-4916-8D04-300432D1A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rameter Value Change callback</a:t>
            </a:r>
            <a:br>
              <a:rPr sz="2600"/>
            </a:br>
            <a:br>
              <a:rPr sz="26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eshadri Chakravart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rameter Value Change callbac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requesting and responding to value change notific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module creates couple of parameters and sets callbacks on both of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param_1, the user module would allow value change without any constrai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param_2, the user module would reject value change unconditional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2" name="Picture 4" descr="cci_ex8.jpeg"/>
          <p:cNvPicPr/>
          <p:nvPr/>
        </p:nvPicPr>
        <p:blipFill>
          <a:blip r:embed="rId1"/>
          <a:stretch/>
        </p:blipFill>
        <p:spPr>
          <a:xfrm>
            <a:off x="138240" y="700200"/>
            <a:ext cx="8867520" cy="545760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7"/>
          <p:cNvSpPr/>
          <p:nvPr/>
        </p:nvSpPr>
        <p:spPr>
          <a:xfrm>
            <a:off x="2093760" y="5370480"/>
            <a:ext cx="6921720" cy="689040"/>
          </a:xfrm>
          <a:prstGeom prst="leftArrowCallout">
            <a:avLst>
              <a:gd name="adj1" fmla="val 14751"/>
              <a:gd name="adj2" fmla="val 25000"/>
              <a:gd name="adj3" fmla="val 123243"/>
              <a:gd name="adj4" fmla="val 365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Observe that since write is rejec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for param_2 reject_write callback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no other callbacks are triggere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br>
              <a:rPr sz="32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08_Parameter_Value_Change_Callbacks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1 (1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@Ctor: Value of sim_ip.param_1 is 1 (Default value Specified: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2 (2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@Ctor: Value of sim_ip.param_2 is 2 (Default value Specified: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Set value of sim_ip.param_1 to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write_callback:sim_ip.param_1 (1 -&gt; 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ost_write_callback:sim_ip.param_1 (1 -&gt; 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1 (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Current value of sim_ip.param_1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Set value of sim_ip.param_2 to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reject_pre_write_callback: Rejecting Value change on sim_ip.param_2 (2 -&gt; 2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0 s, Caught exception: Error: /Accellera/CCI/SET_PARAM_FAILED: Value rejected by callback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2 (2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cfg_ip: @0 s, config_ip::end_of_elaboration: [EXTERNAL] Current value of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1 (10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Dtor: Value of sim_ip.param_1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2 (2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Dtor: Value of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5T20:36:41Z</dcterms:modified>
  <cp:revision>149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0:36:41Z</vt:lpwstr>
  </property>
  <property fmtid="{D5CDD505-2E9C-101B-9397-08002B2CF9AE}" pid="5" name="TitusGUID">
    <vt:lpwstr>e91f1e81-ec8b-4b29-aa9d-61454af1454c</vt:lpwstr>
  </property>
</Properties>
</file>