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49892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89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6E886-E56E-48F9-A1C4-573F5DFB6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1D7C7-4EAC-4D05-B436-F9F451CC65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EFF19-CBAC-419C-B369-16C5FF0D5E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824F4-6F7F-4EE1-9B88-C786A9FDB3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B5B7B-70E3-44D2-9835-F0B0DFF726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F9E1F-33B4-4269-9118-16E7F9A1C5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14388-BA57-4773-B3BE-C0A4417DA0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6096C-B3FD-4C86-A4BD-7BC3A7CCC4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B1D94-E6EA-4B94-A4E8-29575BDE5D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0ED72-2C83-4BC3-8E0E-06A7A81512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F286A-D562-4B60-84EF-D33BA61A8F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B01C7-92B0-4CAA-87D7-0D1C76C2B1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D5401-4B81-4F54-AB6E-B6F6D30983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187A8-A64A-464F-A070-D51E12611A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FE6A5-01A1-4767-A64D-8666DD8B72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4BB7D-383E-4CD8-A6F9-1D33B84288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2C31B-4779-4F40-86F6-B516C975EC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FF33B-A731-4564-9C75-5999BFEEE9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367D5-8C62-47E6-9585-31CB4F0A8B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907FD-D859-454E-B566-05224B6637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AA8CC-A142-45CD-8078-E2BA4DCB2B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EA585-94A6-4D03-A718-A0F7EDA0FD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A0397-911E-4C22-BE80-367B6F9B5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19ABE-D502-47D9-88E4-DDD3A585A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E66E-F7D4-4ED6-875F-2C4A25499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230AD-FDDD-400F-993F-413E0535F9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EB961-1DAF-443C-B1F7-C249D251A0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0906B-4322-4187-B5D0-A98B1AA8F4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C1EFF-7E02-437F-9374-D65993C71F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0D528-66A7-4CB5-8991-464F368719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0312D-6CFF-4FDB-86BD-C626B4C799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59CCB-0CA9-4587-9B3A-1B499B0486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48C8A-34F5-4784-B6B5-8E1BB32AB0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87A39-6B27-4426-8A8C-77C9BE4134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7A195-1444-46C9-BE76-3166CBCB67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3B2DB-5C3A-4390-B886-4DB47D56E2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C81E3-B9E7-4D02-A5C9-55788BB1D1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4C490-DB2D-4CBF-9CE0-C10000CCE7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B6717-12D9-4ED1-B144-8111C34424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8F8F2-7AA6-4F89-A4AE-C0EE1A60B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E055B-7844-43AD-B188-CA4A0969E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4627C-CAD5-4626-9AF4-122CB67E4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A449F-CD48-43AE-8323-11035E19C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D2E21-75D6-49DD-8543-64C887BD8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1310-DC51-4B52-8970-A48E594C6E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05927-36CE-46C9-A37E-F36889F81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8120"/>
            <a:ext cx="11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BBB14-4948-4470-ABE1-9032F71273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22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22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240" y="6287760"/>
            <a:ext cx="11444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54D6897D-CF7C-4384-9F3E-1FF7910037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fying Parameter Value via a Configuration File</a:t>
            </a: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1"/>
          <p:cNvSpPr/>
          <p:nvPr/>
        </p:nvSpPr>
        <p:spPr>
          <a:xfrm>
            <a:off x="554040" y="144360"/>
            <a:ext cx="807228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ying Parameter Values via a Configuration F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Understand the precedence between the default, preset and 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Processing configuration file to establish pre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72960" y="2743200"/>
            <a:ext cx="4503960" cy="11430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“cci_configFile_Tool.h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configuration file as shown below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Unicode MS"/>
              </a:rPr>
              <a:t>cci_configFile_Tool configTool("configFileTool"); configTool.config("Configuration_File.txt");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1" name="Group 10"/>
          <p:cNvGrpSpPr/>
          <p:nvPr/>
        </p:nvGrpSpPr>
        <p:grpSpPr>
          <a:xfrm>
            <a:off x="5105520" y="1676520"/>
            <a:ext cx="3657600" cy="1828800"/>
            <a:chOff x="5105520" y="1676520"/>
            <a:chExt cx="3657600" cy="1828800"/>
          </a:xfrm>
        </p:grpSpPr>
        <p:sp>
          <p:nvSpPr>
            <p:cNvPr id="182" name="AutoShape 2"/>
            <p:cNvSpPr/>
            <p:nvPr/>
          </p:nvSpPr>
          <p:spPr>
            <a:xfrm>
              <a:off x="5715000" y="304812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>
              <a:off x="5105520" y="167652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4" name="AutoShape 9"/>
          <p:cNvSpPr/>
          <p:nvPr/>
        </p:nvSpPr>
        <p:spPr>
          <a:xfrm>
            <a:off x="533520" y="2133720"/>
            <a:ext cx="2361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Within sc_ma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685800" y="914400"/>
            <a:ext cx="792468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an instance of the class that reads the configuration file within the sc_main function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reads name-value pairs from the configuration file and assigns to the respective parameters accordingly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3"/>
          <p:cNvSpPr/>
          <p:nvPr/>
        </p:nvSpPr>
        <p:spPr>
          <a:xfrm>
            <a:off x="228600" y="914400"/>
            <a:ext cx="3809880" cy="685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22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 Implement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486400" y="685800"/>
            <a:ext cx="3657600" cy="1828800"/>
            <a:chOff x="5486400" y="685800"/>
            <a:chExt cx="3657600" cy="1828800"/>
          </a:xfrm>
        </p:grpSpPr>
        <p:sp>
          <p:nvSpPr>
            <p:cNvPr id="190" name="AutoShape 6"/>
            <p:cNvSpPr/>
            <p:nvPr/>
          </p:nvSpPr>
          <p:spPr>
            <a:xfrm>
              <a:off x="6095880" y="205740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5486400" y="68580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2" name="AutoShape 8"/>
          <p:cNvSpPr/>
          <p:nvPr/>
        </p:nvSpPr>
        <p:spPr>
          <a:xfrm>
            <a:off x="304920" y="1752480"/>
            <a:ext cx="434340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is a simple C++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304920" y="2666880"/>
            <a:ext cx="78483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Get handl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global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(cci::get_global_broker(mToolOriginator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76320" y="3276720"/>
            <a:ext cx="8305560" cy="1600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API,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line void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 (const char* filename)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function reads the fi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uration_File.tx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line by line using an iterator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t assigns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rest value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cci-parameters read from the file using the broke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.set_prest_value(it-&gt;first.c_str(), cci::cci_value::from_json(it-&gt;second.c_str())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Line 12"/>
          <p:cNvSpPr/>
          <p:nvPr/>
        </p:nvSpPr>
        <p:spPr>
          <a:xfrm flipH="1">
            <a:off x="2895480" y="4648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114800" y="46483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914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nam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4343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04920" y="2209680"/>
            <a:ext cx="510516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 a cci::cci_originator instanc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ToolOrigina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4"/>
          <p:cNvGrpSpPr/>
          <p:nvPr/>
        </p:nvGrpSpPr>
        <p:grpSpPr>
          <a:xfrm>
            <a:off x="4724280" y="685800"/>
            <a:ext cx="3535560" cy="5475240"/>
            <a:chOff x="4724280" y="685800"/>
            <a:chExt cx="3535560" cy="5475240"/>
          </a:xfrm>
        </p:grpSpPr>
        <p:sp>
          <p:nvSpPr>
            <p:cNvPr id="203" name="AutoShape 3"/>
            <p:cNvSpPr/>
            <p:nvPr/>
          </p:nvSpPr>
          <p:spPr>
            <a:xfrm>
              <a:off x="4724280" y="685800"/>
              <a:ext cx="35355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Line 4"/>
            <p:cNvSpPr/>
            <p:nvPr/>
          </p:nvSpPr>
          <p:spPr>
            <a:xfrm>
              <a:off x="6469200" y="1131840"/>
              <a:ext cx="9360" cy="50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5" name="AutoShape 5"/>
          <p:cNvSpPr/>
          <p:nvPr/>
        </p:nvSpPr>
        <p:spPr>
          <a:xfrm>
            <a:off x="312840" y="1370160"/>
            <a:ext cx="445140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() :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() : pre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3276720" y="2173320"/>
            <a:ext cx="5486400" cy="19000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Get references of the integer, float and string cci-parameter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in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in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floa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floa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str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string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3048120" y="4484520"/>
            <a:ext cx="5943600" cy="696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new values to ‘integer’ and ‘string’ typ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set_cci_value(cci_value(“20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set_cci_value(cci_value::from_json(“configure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7454880" y="4073400"/>
            <a:ext cx="1155600" cy="4222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314280" y="5256360"/>
            <a:ext cx="524844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_value() :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_value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_value() : configur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488880" y="4835520"/>
            <a:ext cx="1155600" cy="345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1" name="Group 13"/>
          <p:cNvGrpSpPr/>
          <p:nvPr/>
        </p:nvGrpSpPr>
        <p:grpSpPr>
          <a:xfrm>
            <a:off x="1108080" y="679320"/>
            <a:ext cx="2625840" cy="5492520"/>
            <a:chOff x="1108080" y="679320"/>
            <a:chExt cx="2625840" cy="5492520"/>
          </a:xfrm>
        </p:grpSpPr>
        <p:sp>
          <p:nvSpPr>
            <p:cNvPr id="212" name="AutoShape 2"/>
            <p:cNvSpPr/>
            <p:nvPr/>
          </p:nvSpPr>
          <p:spPr>
            <a:xfrm>
              <a:off x="1108080" y="679320"/>
              <a:ext cx="2625840" cy="47916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4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2543040" y="1379880"/>
              <a:ext cx="9720" cy="47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4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304920" y="144360"/>
            <a:ext cx="850716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cedence of Prest, Default &amp; Set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600200" y="19810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600200" y="40068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152280" y="186048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1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52280" y="388620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2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1600200" y="762120"/>
            <a:ext cx="1066680" cy="42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Line 10"/>
          <p:cNvSpPr/>
          <p:nvPr/>
        </p:nvSpPr>
        <p:spPr>
          <a:xfrm flipV="1">
            <a:off x="213372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144792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8098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38098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320040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3200400" y="717480"/>
            <a:ext cx="1295280" cy="501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274320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495288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AutoShape 18"/>
          <p:cNvSpPr/>
          <p:nvPr/>
        </p:nvSpPr>
        <p:spPr>
          <a:xfrm>
            <a:off x="152280" y="5638680"/>
            <a:ext cx="22860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fore instantiation of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AutoShape 19"/>
          <p:cNvSpPr/>
          <p:nvPr/>
        </p:nvSpPr>
        <p:spPr>
          <a:xfrm>
            <a:off x="4229280" y="1676520"/>
            <a:ext cx="144756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over-ridden by the preset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2095560" y="1652760"/>
            <a:ext cx="121932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has the highest precedenc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1"/>
          <p:cNvSpPr/>
          <p:nvPr/>
        </p:nvSpPr>
        <p:spPr>
          <a:xfrm>
            <a:off x="4419720" y="3809880"/>
            <a:ext cx="121896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281952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uring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5867280" y="48006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5867280" y="6858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67816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67816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28"/>
          <p:cNvSpPr/>
          <p:nvPr/>
        </p:nvSpPr>
        <p:spPr>
          <a:xfrm>
            <a:off x="7391520" y="182880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9"/>
          <p:cNvSpPr/>
          <p:nvPr/>
        </p:nvSpPr>
        <p:spPr>
          <a:xfrm>
            <a:off x="7391520" y="380988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AutoShape 30"/>
          <p:cNvSpPr/>
          <p:nvPr/>
        </p:nvSpPr>
        <p:spPr>
          <a:xfrm>
            <a:off x="525780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fter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Line 31"/>
          <p:cNvSpPr/>
          <p:nvPr/>
        </p:nvSpPr>
        <p:spPr>
          <a:xfrm>
            <a:off x="304920" y="5562720"/>
            <a:ext cx="8381880" cy="0"/>
          </a:xfrm>
          <a:prstGeom prst="line">
            <a:avLst/>
          </a:prstGeom>
          <a:ln w="19080">
            <a:solidFill>
              <a:srgbClr val="0000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213372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7_Specifying_Parameter_Value_via_a_Configuration_File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1092240"/>
            <a:ext cx="8686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int_param'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string_param' to '“preset"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Int 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String Parameter Value : pres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Integer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Float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String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integer parameter value to '2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string  parameter value to 'configur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Int Parameter Value :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String Parameter Value : config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23:22Z</dcterms:modified>
  <cp:revision>18</cp:revision>
  <dc:subject/>
  <dc:title>ex17_Specifying_Parameter_Values_via_a_Configuration_F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23:22Z</vt:lpwstr>
  </property>
  <property fmtid="{D5CDD505-2E9C-101B-9397-08002B2CF9AE}" pid="5" name="TitusGUID">
    <vt:lpwstr>c44708f1-27b7-4d9f-94bd-f7e37ebb71cf</vt:lpwstr>
  </property>
</Properties>
</file>