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5E2EB-101E-4795-A6EB-CD899BD4E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4C97D-D0EE-4714-A4E7-7E36B10688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8AF08-E9E7-4973-90F6-0B7833126F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B07D4-8275-4905-8E82-6E441BDFFF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F9256-6877-4A9B-A357-012EAA9DF5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3FCDB-52C3-4096-9A38-40F5497A30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DCE68-D28D-4B71-9BE4-F6998A1D98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7F1DD-D3EC-4E59-828F-2F70F70E7F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F185C-DF67-4C9F-AD4C-F0F46350E6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8381C-1704-4BB1-AB68-EBB4AD0D81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74F8E-AD37-4642-B67D-163536DADA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DE067-B169-4AB8-8C21-16CF0FE64C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9F070-BBBC-4499-8345-B0928E799B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CB004-5ED3-48CE-BF3A-3B597068AB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4491A-59AA-4D93-B1D0-63E80B2369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868CF-52B1-4862-82EC-53BCC9CC72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3839A-4AF8-40C0-8F16-2B8748BE8F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E6B3E-F7FB-428A-87EE-6450500461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49D2C-FA93-4B34-9332-8812E0070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0ED3B-87C8-4E18-899F-C8BF51FAB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78FB-A194-4427-8C82-F98495B1D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13DE-1654-4023-8E01-6D0258665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0FC6F-B39B-4EA2-93B4-7363342B1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2F04F-2875-4B81-B654-90B4B65E60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AFBC5-C405-43EC-89C3-37787FE790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E7180-6CC2-4E20-91C2-97D372CEEA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B3E86-BE12-485B-8DA8-7E093FB9B7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F18B2-C215-4D98-B671-8B1BE75FAB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0983-AD32-47FB-A946-5A3FA59DD3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C300F-0F02-46D6-BA34-12ED532455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4323D-BACC-408E-9BAC-BACD9735BE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C8E5A-D00A-4BBD-AA6F-CF52F09D9E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DCD99-6814-4A76-A07B-BB0D219B09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8E95D-312F-44AF-B23D-6E38D61228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FC687-C378-452A-A714-D80009CD54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76DC-9697-49E1-897F-B82E15501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BE50-B441-4CC6-AAEA-2E9722AEC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3236-25D0-4A64-9DF9-3201EDE72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F504-4A0C-48EC-8413-6218F332D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B62CD-DBFD-4608-BCFE-A671CC4C8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562C-26A5-455B-8D41-E8B8C8EB7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83D5-6418-4B3E-BFEA-16800E993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672D8-9C5D-4B55-B543-F6CCF497FA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63B030B-248E-4573-80E8-90DC6442B5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uperset Parameter Value Specif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set Parameter Value Spec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cting Unconsumed Parameters (R3.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in a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8"/>
          <p:cNvSpPr/>
          <p:nvPr/>
        </p:nvSpPr>
        <p:spPr>
          <a:xfrm flipH="1">
            <a:off x="228456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762120" y="4038480"/>
            <a:ext cx="2438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6095880" y="411480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533520" y="990720"/>
            <a:ext cx="8001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figuration file approach for assigning preset values to the cci-parameters.  (For further details, see ex17_Specifying_Parameter_Values_via_a_Configuration_Fi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2286000" y="266688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two modules 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" name="Straight Arrow Connector 43"/>
          <p:cNvCxnSpPr>
            <a:stCxn id="188" idx="2"/>
            <a:endCxn id="184" idx="0"/>
          </p:cNvCxnSpPr>
          <p:nvPr/>
        </p:nvCxnSpPr>
        <p:spPr>
          <a:xfrm flipH="1">
            <a:off x="1980360" y="3352320"/>
            <a:ext cx="2706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45"/>
          <p:cNvCxnSpPr>
            <a:stCxn id="188" idx="2"/>
            <a:endCxn id="185" idx="0"/>
          </p:cNvCxnSpPr>
          <p:nvPr/>
        </p:nvCxnSpPr>
        <p:spPr>
          <a:xfrm>
            <a:off x="4686480" y="3352320"/>
            <a:ext cx="2743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ctangle 46"/>
          <p:cNvSpPr/>
          <p:nvPr/>
        </p:nvSpPr>
        <p:spPr>
          <a:xfrm>
            <a:off x="152280" y="48006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cci_parameters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1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2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6113520" y="499284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handle for broker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(cci::cci_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Straight Connector 28"/>
          <p:cNvSpPr/>
          <p:nvPr/>
        </p:nvSpPr>
        <p:spPr>
          <a:xfrm flipH="1">
            <a:off x="723744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095880" y="1600200"/>
            <a:ext cx="2819520" cy="1143000"/>
          </a:xfrm>
          <a:prstGeom prst="flowChartDocumen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6629400" y="2666880"/>
            <a:ext cx="16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ion_F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90400" y="1827720"/>
            <a:ext cx="451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ci::cnf::cci_configFile_Tool configTool("configFileTool")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gTool.config("Configuration_File.txt"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304920" y="91440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038480" y="288288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list of unconsumed preset values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sumed_parameter_list = m_broker.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unconsumed_preset_val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438280" y="2577960"/>
            <a:ext cx="1905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EOE ph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200400" y="43434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4038480" y="45720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list of parameter names for which there are unconsumed preset values: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8"/>
          <p:cNvSpPr/>
          <p:nvPr/>
        </p:nvSpPr>
        <p:spPr>
          <a:xfrm flipH="1">
            <a:off x="1523520" y="1676520"/>
            <a:ext cx="180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038480" y="1447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param_handles(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trieve list of all cci-parameters within model.  Store result in a std::vect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_parameter_list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.get_param_handles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8_Superset_Parameter_Value_Specification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514160"/>
            <a:ext cx="8686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1' to '1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2' to '2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3' to '3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4' to '400‘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List of all parameters in the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List of parameter names with unconsumed preset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40:57Z</dcterms:modified>
  <cp:revision>20</cp:revision>
  <dc:subject/>
  <dc:title>ex18_Superset_Parameter_Value_Spec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0:57Z</vt:lpwstr>
  </property>
  <property fmtid="{D5CDD505-2E9C-101B-9397-08002B2CF9AE}" pid="5" name="TitusGUID">
    <vt:lpwstr>407613b7-d1ea-43f3-af1c-aef363dad956</vt:lpwstr>
  </property>
</Properties>
</file>